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047-18CB-40F0-963E-3F9F546C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4423-A1F4-4561-ADEF-05C7A380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FBF-D0B3-42A9-A394-3486E280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6E2-A2B8-474E-B958-677E4C9F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2BD-83CC-437F-BB31-F80FB197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1B3-42BF-40BF-8646-EA821109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5FC3-6969-4AAD-BCB4-C509F131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11C-2526-4BB7-ADCD-5A09EDAD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42A-BBBB-434C-9466-08410F4B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A84-918B-426D-92C2-099FB16C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57D-E107-41AE-ABD7-F0729444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7C81-D488-4F7E-9B84-324CA7CE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C5CA-4879-4B5D-A99C-FFC6CF5D6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7120" y="1218600"/>
            <a:ext cx="779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Where have we come fr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43720"/>
            <a:ext cx="91440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1"/>
              </a:buBlip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ifficulty shifting from ICT being computer based skills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 problem based thinking skills. (most appropriate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ol to enhance higher order think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507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rs are key pieces of equipment in any school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but they are just one part of the overall pic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fined ICT in the classroom (Term 4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CT is not only computer skills but Key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jor discussion and modification to existing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amples of Inquiry Learning Mod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late Term 4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iggest problem being ‘the big idea’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uided inquiry Learning with saturation as motivation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stablishing a Inquiry Model which fits 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6720" y="2514240"/>
            <a:ext cx="55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1182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Yea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733920"/>
            <a:ext cx="2743200" cy="2514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1"/>
              </a:buBlip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mplementation of Inquiry Model into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3"/>
              </a:buBlip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daptation of model to support senior and junior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4"/>
              </a:buBlip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ngoing development of planning templates to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assimilate to the inquiry model and the revised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curricul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Visit to other schools ‘best practice’ to see Inquiry in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ction and to share with other teachers and their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our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.A.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arepapa S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iop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1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.O.D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earnings the Th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uilding a schools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ittlies leading the way 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– Pauline McLeod, Rosemary C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t’s about inquiry and my journey  – Miriam Mi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05"/>
              <a:buBlip>
                <a:blip r:embed="rId9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eb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oors to Disneyland –Donna D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05"/>
              <a:buBlip>
                <a:blip r:embed="rId11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nline LM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choolzone/myclasses/el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ernard Pett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ncept/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Questioning/quality ques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ssessment of Key 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.O.P.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larified authentic learning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7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d later simplified planning templates to fit the SOLO model  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put’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‘process’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‘outpu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05120" y="4038120"/>
            <a:ext cx="363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Where nex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itting ourselves to the infusion of ICT means committing ourselves to providing problem-based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 based learning has four critical components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ulla (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blem must be open-ended, not having one right answer or one right method of arriving at the answ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ust be authentic, related to real-lif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ust be complex, encompassing a variety of skills and a breadth of content rather than focusing on a narrow set of skills or conten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should be assessed through a rubric, thereby providing students with a "roadmap" to success as they assess their progress and determine what they need to do to move to more expert levels of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39720"/>
            <a:ext cx="91440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eachers using topic based integrated teaching and 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earning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Variety of skills and knowledge levels of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o overall awareness of what the contract was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2" marL="1085760" indent="-217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ility beyond the ICT PD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wareness of new approaches and developments and the impact in the classroom, both from the perspective of the teacher and the lea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ful adaptation when relevant to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going Staff Learning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to support Inquiry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Lear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going Staff Learning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f Best Practice in School staff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ing other schools and teachers to look at and discuss b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ed professional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effectiveness of the Inquiry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13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Year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CT Focus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mp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ing Software in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D day with Facilitator on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veloping rubric on computer software skill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ach year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CT PD Facilitator -Mike Whit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ritten language 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ing a word processor to draft and 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ing images 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ills, photographs, digital and conventional in the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owerPoint 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telling and presentation of units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39000"/>
            <a:ext cx="914400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lvl="1" marL="436680" indent="-250920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rea Facilitator -Jill Hammonds  (Dec 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-25092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-25092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iscussion and group work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316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at students need’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316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w this affects the way they learn’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-250920"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e developed an outline of the above according to what fitted our beliefs for our school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-25092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-250920"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0000" indent="-357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our/my current ICT practic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-357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 practice best suits our students’ future role as lifelong learn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-357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does incorporating this best practice meet our current school policies and government directiv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-357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future focus with regards to professional development, implementation and technologies do we need to employ in our ICT Pl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04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 Focus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438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Year 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.O.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aff exposed to the idea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928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quir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nriching the Inquir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.A.U.N.C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formation Literacy Continuum across th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earning Centred Class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inking Hats/BIG 6/Bl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riefly linking unit plans t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9:36:43Z</dcterms:created>
  <dc:creator>adminstrator</dc:creator>
  <dc:description/>
  <dc:language>en-US</dc:language>
  <cp:lastModifiedBy>St Joseph's</cp:lastModifiedBy>
  <dcterms:modified xsi:type="dcterms:W3CDTF">2008-06-18T01:16:32Z</dcterms:modified>
  <cp:revision>36</cp:revision>
  <dc:subject/>
  <dc:title>Slide 1</dc:title>
</cp:coreProperties>
</file>